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AFB-FE39-4739-8862-2B48747D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0AB-8332-4006-AA88-105AF5C8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153-ADF7-4343-82D7-21480D6A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215-BA66-459C-8898-B1708539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6E6F-C040-42D2-9219-97FA698E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7B4A-FA4D-4643-9A68-A54CEA5D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E5DA-8ACE-44EA-ABC0-45A4E4A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4AB-A071-4BA2-9800-1C5C2866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5890-EF18-4C59-81EF-88404FFC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7278-FE56-41CE-85B3-C31FD0E6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39E1-55CC-46F8-9DA8-5252EEF6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E53-3033-4456-8589-3F8685FE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8836-8A96-4470-8024-060219AA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C5B4-F213-4C0F-9300-27B331D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B796-259E-4339-9434-F65F62EC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AC9D-D04D-4B6F-9EF1-9F5D482F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FBDF-BD94-4FF8-8294-DF6CEEC0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371C-9ACC-4679-9A45-DD02D57B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0A94-6F5D-4544-94D3-56570A2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5242-3777-42C0-9D2F-4C27B21C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8658-A962-4921-BFC7-D82C814D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A67F1-8D6B-4BDD-80FC-1D72E53B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6F0-F76A-4840-9D6C-7B828712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3A61-B8C5-4BC1-A3D0-089CF527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8D58-0131-41D5-AF6D-849CA94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8FEB-15F2-43A4-92D0-0BFBA18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B4C0-A0EE-4DF0-A1B6-AD69207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1491-FA14-4DDD-990F-63CB732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6A9A-F4B8-47A5-8870-80B47406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E1980-4843-4BB4-85E8-32F28BC3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5CE6-A388-4140-8CFF-835C42B4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ED2ED-B644-4CF9-B98A-DB2C36E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B5141-26B9-4493-A2BD-B025861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661-8412-4F10-8561-68335221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3959-EFBD-462E-B15C-C550E13C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BADE-D335-436D-9373-AA0A2D8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AD27-134C-4193-ABD2-A26CA1D8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D625-63CD-4D6B-8323-06CB1D5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8486-2E8B-4231-97F2-C8C54890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19E1-0B4C-49D2-9D58-A06CF495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F5586-CEDC-423E-AF04-B81343B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FD81-A362-4978-ADEF-92260C2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0E9C-C138-4E6F-AAC4-43EF09E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97C9-C523-4A85-ABA5-EE8156FE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DB5-6DA3-41FC-A74D-B5B2C5A9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086C-285D-4BD9-B10D-C1089C4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038B-4D0C-4001-9262-279D8C1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DB68F-3BAE-4AF2-90DC-2B5B51E3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38CB-D47E-4934-AB0B-F4F05A3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837F3-AA58-4AC3-9D24-9E0A46BF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BF8B-D0A4-4B9A-928B-179C297A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4CD3E-B463-4C17-8FD1-759C273A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05B6-738F-44B9-AFC4-0A91DB7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20E2-3D50-4BD1-84A6-C0C39701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6174-1263-4AD6-9B48-36802EF0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723-1EFA-47DA-8AF3-A5F3AE31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D30C6-FF0E-43FC-9F98-27CE7640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0C6-385A-4405-A234-D9ADE1D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FC0-FE44-4EBB-B4D8-BCF701D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E60-6E75-42DB-BEC8-7A7999E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F682-B33B-40AF-8D65-74A49D33D14E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0B8-F022-45F3-8072-588CB40FC8C6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5F3C-D7B7-422D-BAF3-561CAF0D6074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9525-72E8-49ED-97AD-23DFF7C5CA83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F251-1B84-4E5E-A39E-D7B113D7364D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0" y="522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Department of Electrical and Computer Engineering (ECE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School of Engineering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Hellenic Mediterranean University (HMU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0" name="Picture 3" descr="A picture containing logo&#10;&#10;Description automatically generated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5008680"/>
          </a:xfrm>
          <a:prstGeom prst="rect">
            <a:avLst/>
          </a:prstGeom>
          <a:ln w="0">
            <a:noFill/>
          </a:ln>
        </p:spPr>
      </p:pic>
      <p:pic>
        <p:nvPicPr>
          <p:cNvPr id="221" name="Εικόνα 3" descr=""/>
          <p:cNvPicPr/>
          <p:nvPr/>
        </p:nvPicPr>
        <p:blipFill>
          <a:blip r:embed="rId2"/>
          <a:stretch/>
        </p:blipFill>
        <p:spPr>
          <a:xfrm>
            <a:off x="1270080" y="1270080"/>
            <a:ext cx="63360" cy="7596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3" descr=""/>
          <p:cNvPicPr/>
          <p:nvPr/>
        </p:nvPicPr>
        <p:blipFill>
          <a:blip r:embed="rId3"/>
          <a:stretch/>
        </p:blipFill>
        <p:spPr>
          <a:xfrm>
            <a:off x="1270080" y="1270080"/>
            <a:ext cx="63360" cy="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APPLIED MATHEMATICS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7846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76e"/>
                </a:solidFill>
                <a:latin typeface="Arial"/>
              </a:rPr>
              <a:t>Prof. Emmanouil Mageiropoulo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Topics in Applied Mathematic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59984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ourse Descript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555555"/>
                </a:solidFill>
                <a:latin typeface="Roboto"/>
              </a:rPr>
              <a:t>Elements of Linear Algebra: Vector Spaces and Linear Maps, Mattrices over Real and Complex Numbers (Operations, Determinants, Eigenvalues and Eigenstates, Little Spectral Theorem, Gauss-Jordan Elimination Process. The Discreet Fourier Transform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555555"/>
                </a:solidFill>
                <a:latin typeface="Roboto"/>
              </a:rPr>
              <a:t>Laplace and Fourier Transforms: The L1 and L2 Spaces. Definitions of the Laplace and Fourier Transforms as particular cases of Integral Transforms, and properties of them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555555"/>
                </a:solidFill>
                <a:latin typeface="Roboto"/>
              </a:rPr>
              <a:t>Probability Theory: Basic Definitions. The concept of a Continuous Distribution. Some typical examples.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Members of stuff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of. Emmanouil Mageiropoulo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410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Four (4) hours per week (3 hours theory and 1 hour Exercises)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 midterm project (on Linear Algebra and Laplace Transform) measuring 30% of the final grade and a final exam measuring 70% of the final grad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very week a set of exercises will be given for practic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Specific detail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59984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Lectures’ schedule: every Tuesday 9:15-13:00 at room </a:t>
            </a:r>
            <a:r>
              <a:rPr b="0" lang="el-GR" sz="2400" spc="-1" strike="noStrike">
                <a:solidFill>
                  <a:srgbClr val="292934"/>
                </a:solidFill>
                <a:latin typeface="Arial"/>
              </a:rPr>
              <a:t>Γ1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Learning materials (in Greek)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Δημ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ή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τρη Καραγιαννάκη «ΕΙΣΑΓΩΓΗ ΣΤΗ ΓΡΑΜΜΙΚΗ ΑΛΓΕΒΡΑ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Θεωρία και Εφαρμογές»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Εκδόσεις Ζήτη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, 201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, ISBN: 978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96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456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34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-1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Δημ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ή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τρη Καραγιαννάκη «ΑΝΑΛΥΣΗ ΣΗΜΑΤΟΣ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Θεωρία και Εφαρμογές»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Β’ Αναθεωρημένη Έκδοση, Εκδόσεις Δίσιγμα, 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ISBN: 978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96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9495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0-</a:t>
            </a:r>
            <a:r>
              <a:rPr b="0" lang="el-GR" sz="1800" spc="-1" strike="noStrike">
                <a:solidFill>
                  <a:srgbClr val="29293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Applicant profil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re-requisite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Basic Calculus and Basic Linear Algebr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xpected weekly workloa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Normally no more than 5 hours in averag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14:33:27Z</dcterms:created>
  <dc:creator>Dimosthenis</dc:creator>
  <dc:description/>
  <dc:language>en-US</dc:language>
  <cp:lastModifiedBy>Spyros Panagiotakis</cp:lastModifiedBy>
  <dcterms:modified xsi:type="dcterms:W3CDTF">2025-09-29T13:30:19Z</dcterms:modified>
  <cp:revision>96</cp:revision>
  <dc:subject/>
  <dc:title>‘Informatics &amp; multimedia’</dc:title>
</cp:coreProperties>
</file>